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3.wmf" ContentType="image/x-wmf"/>
  <Override PartName="/ppt/media/image30.png" ContentType="image/png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28.png" ContentType="image/png"/>
  <Override PartName="/ppt/media/image31.wmf" ContentType="image/x-wmf"/>
  <Override PartName="/ppt/media/image46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0C5-A48F-40AD-8359-7837D19C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10D-3492-45BE-A68D-471D8E0E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4AF-95AF-4761-B48E-AC7ACC44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4DA-443D-4A5F-87D1-02E313CD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5792-3548-4B81-AE6E-2B17BD6D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A356-B9E6-401E-974C-73C2C8D4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1A7A-0E37-4C6B-991D-5934E81A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9506-CABE-433B-A026-44414FC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C5DE-EF87-4DB8-9A9C-49C2950C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244F-13C4-4FC4-B521-37FD616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9686-125F-43AD-B111-52384E92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408-514C-4D35-AEEC-4CF28EBC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76CE-F0CB-49F6-8EA3-B61B2F6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8515-52B2-4691-AC4B-52EC504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2145-9136-46DA-B3EA-4A48765A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82B5-4EBA-4BE6-BF7E-E25AFE70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0D25-8F55-45DF-85C5-9A8E5C5C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9162E-5B01-4754-B196-96BAC6FE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76EB7-F68C-44A6-911A-98676956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DAF81-06DC-406F-81FE-AAF2044B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DE8F5-47BA-4BB9-99F5-46CE2EF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1E03B-479E-4F34-9400-0EE3276D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0CA-679E-497D-9FED-278458EB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0C8B8-E3AA-46D1-881B-1B6404E8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63623-94D0-4C57-BE79-23EC8B9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E3DFE-08FA-4B28-A78E-91BE25AA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54B6C-347F-41D2-9831-A72D1AF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16B27-DA5F-449D-B518-DB2E0486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BDBB2-4857-4F32-A857-4C180452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FFA51-8B6C-488E-BC8A-779BFEDE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70A5-438A-4ACD-A8FE-8FABA2F0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09FF-5BB6-48F3-A2AE-47134605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93406-2335-47CB-9A1C-1FEECB59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4B8-6B4A-48BA-BA20-CA61732D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445B0-8976-42E2-84BA-F83B1EA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C39E-F998-401E-84B7-3383CA52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EF82F-BA52-4F44-9A17-3937EFC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E3ED-DF8C-4DE6-9420-F093B636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7CB9-283D-4226-B977-26EBA6D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3B0B-B499-4B26-9BE8-FE4BD123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8BFA1-90B0-4D28-ACB9-2E0C5809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100A-DBE4-47E1-89DC-BF6ACE1C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EE9BE-7644-4305-8536-E333B437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BEF-7B69-4C9C-9C25-C63BE084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29D-BA65-4397-A6A7-04365127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4AA-9D6D-4E80-BBE1-21DE807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7A4-55AB-43D8-94EF-2B8A2B6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080-3208-4C0B-AB20-8200C5D3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8CFF-0D9B-47FD-B711-DFA6366AF170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954-FEBC-47E4-98DD-537DF9FDCE33}" type="slidenum">
              <a:rPr b="0" lang="ru-RU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7394-3758-4079-8606-C9CA0BEE238D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5FFE-EB4D-4618-9E5A-58ADC8756E67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8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1" descr="http://www.math24.ru/images/Hopital.jpg"/>
          <p:cNvPicPr/>
          <p:nvPr/>
        </p:nvPicPr>
        <p:blipFill>
          <a:blip r:embed="rId1"/>
          <a:stretch/>
        </p:blipFill>
        <p:spPr>
          <a:xfrm>
            <a:off x="684360" y="2349360"/>
            <a:ext cx="3024000" cy="3608640"/>
          </a:xfrm>
          <a:prstGeom prst="rect">
            <a:avLst/>
          </a:prstGeom>
          <a:ln w="0">
            <a:noFill/>
          </a:ln>
        </p:spPr>
      </p:pic>
      <p:sp>
        <p:nvSpPr>
          <p:cNvPr id="337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90E1-8FCE-4FB4-A8A9-5D163A9B91C5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3924360" y="2060640"/>
            <a:ext cx="42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то правило впер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оминалось в кни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дифференциаль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счислению, опубликова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1696 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французским математ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ийомом Лопита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1661- 170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12500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471E-E470-454B-8AB5-0278D90BB5B6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Объект 4"/>
              <p:cNvSpPr txBox="1"/>
              <p:nvPr/>
            </p:nvSpPr>
            <p:spPr>
              <a:xfrm>
                <a:off x="585720" y="1484280"/>
                <a:ext cx="34387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TextBox 5"/>
          <p:cNvSpPr/>
          <p:nvPr/>
        </p:nvSpPr>
        <p:spPr>
          <a:xfrm>
            <a:off x="133200" y="270828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Объект 6"/>
              <p:cNvSpPr txBox="1"/>
              <p:nvPr/>
            </p:nvSpPr>
            <p:spPr>
              <a:xfrm>
                <a:off x="6667560" y="2492280"/>
                <a:ext cx="627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Объект 7"/>
              <p:cNvSpPr txBox="1"/>
              <p:nvPr/>
            </p:nvSpPr>
            <p:spPr>
              <a:xfrm>
                <a:off x="1379520" y="3213000"/>
                <a:ext cx="526104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878040" y="476280"/>
            <a:ext cx="6608520" cy="2522520"/>
          </a:xfrm>
          <a:prstGeom prst="rect">
            <a:avLst/>
          </a:prstGeom>
          <a:ln w="0">
            <a:noFill/>
          </a:ln>
        </p:spPr>
      </p:pic>
      <p:sp>
        <p:nvSpPr>
          <p:cNvPr id="46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0AD3-01E0-4C4E-A85D-2BCF46F4EDD6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Объект 6"/>
              <p:cNvSpPr txBox="1"/>
              <p:nvPr/>
            </p:nvSpPr>
            <p:spPr>
              <a:xfrm>
                <a:off x="5003640" y="765000"/>
                <a:ext cx="5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Объект 7"/>
              <p:cNvSpPr txBox="1"/>
              <p:nvPr/>
            </p:nvSpPr>
            <p:spPr>
              <a:xfrm>
                <a:off x="3924360" y="2224080"/>
                <a:ext cx="46130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Box 10"/>
          <p:cNvSpPr/>
          <p:nvPr/>
        </p:nvSpPr>
        <p:spPr>
          <a:xfrm>
            <a:off x="491760" y="31827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Объект 11"/>
              <p:cNvSpPr txBox="1"/>
              <p:nvPr/>
            </p:nvSpPr>
            <p:spPr>
              <a:xfrm>
                <a:off x="3780000" y="3645000"/>
                <a:ext cx="21571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TextBox 12"/>
          <p:cNvSpPr/>
          <p:nvPr/>
        </p:nvSpPr>
        <p:spPr>
          <a:xfrm>
            <a:off x="419040" y="4479840"/>
            <a:ext cx="67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Объект 13"/>
              <p:cNvSpPr txBox="1"/>
              <p:nvPr/>
            </p:nvSpPr>
            <p:spPr>
              <a:xfrm>
                <a:off x="7380360" y="44514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14"/>
          <p:cNvSpPr/>
          <p:nvPr/>
        </p:nvSpPr>
        <p:spPr>
          <a:xfrm>
            <a:off x="684360" y="5127480"/>
            <a:ext cx="71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ереписываем данное выражение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TextBox 2" descr=""/>
          <p:cNvPicPr/>
          <p:nvPr/>
        </p:nvPicPr>
        <p:blipFill>
          <a:blip r:embed="rId2"/>
          <a:stretch/>
        </p:blipFill>
        <p:spPr>
          <a:xfrm>
            <a:off x="1047600" y="3560760"/>
            <a:ext cx="2725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901800" y="2120760"/>
            <a:ext cx="6742080" cy="1670040"/>
          </a:xfrm>
          <a:prstGeom prst="rect">
            <a:avLst/>
          </a:prstGeom>
          <a:ln w="0">
            <a:noFill/>
          </a:ln>
        </p:spPr>
      </p:pic>
      <p:sp>
        <p:nvSpPr>
          <p:cNvPr id="47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B07A-4F07-48C6-9A6E-DB9E5C4CF0C3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Объект 6"/>
              <p:cNvSpPr txBox="1"/>
              <p:nvPr/>
            </p:nvSpPr>
            <p:spPr>
              <a:xfrm>
                <a:off x="6516720" y="2060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3" name="TextBox 10"/>
          <p:cNvSpPr/>
          <p:nvPr/>
        </p:nvSpPr>
        <p:spPr>
          <a:xfrm>
            <a:off x="491760" y="5703840"/>
            <a:ext cx="20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2"/>
              <p:cNvSpPr txBox="1"/>
              <p:nvPr/>
            </p:nvSpPr>
            <p:spPr>
              <a:xfrm>
                <a:off x="826920" y="595440"/>
                <a:ext cx="496908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Объект 5"/>
              <p:cNvSpPr txBox="1"/>
              <p:nvPr/>
            </p:nvSpPr>
            <p:spPr>
              <a:xfrm>
                <a:off x="755640" y="3500280"/>
                <a:ext cx="698508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num>
                          <m:den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22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1557360"/>
            <a:ext cx="77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3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    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(            </a:t>
            </a: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           следует представить разность                         в виде неопределенности типа        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ее воспользоваться правилом Лопитал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852F-0A61-4E97-A92C-A2CB25326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435640" y="1628640"/>
          <a:ext cx="11253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1125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4788000" y="2060640"/>
          <a:ext cx="280836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060640"/>
                    <a:ext cx="28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8"/>
          <p:cNvGraphicFramePr/>
          <p:nvPr/>
        </p:nvGraphicFramePr>
        <p:xfrm>
          <a:off x="7093080" y="2708280"/>
          <a:ext cx="1079280" cy="3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2708280"/>
                    <a:ext cx="10792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0"/>
          <p:cNvGraphicFramePr/>
          <p:nvPr/>
        </p:nvGraphicFramePr>
        <p:xfrm>
          <a:off x="5435640" y="3097080"/>
          <a:ext cx="1800360" cy="5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097080"/>
                    <a:ext cx="18003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12"/>
          <p:cNvGraphicFramePr/>
          <p:nvPr/>
        </p:nvGraphicFramePr>
        <p:xfrm>
          <a:off x="5364000" y="3500280"/>
          <a:ext cx="28908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3500280"/>
                    <a:ext cx="289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14"/>
          <p:cNvGraphicFramePr/>
          <p:nvPr/>
        </p:nvGraphicFramePr>
        <p:xfrm>
          <a:off x="1187280" y="4140360"/>
          <a:ext cx="5905800" cy="195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6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140360"/>
                    <a:ext cx="59058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3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Пример  5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Объект 4"/>
              <p:cNvSpPr txBox="1"/>
              <p:nvPr/>
            </p:nvSpPr>
            <p:spPr>
              <a:xfrm>
                <a:off x="1932120" y="2637000"/>
                <a:ext cx="4655880" cy="26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∞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AF10-488C-4743-AB87-F65E90C892E3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385920" y="112536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908000" y="949320"/>
                <a:ext cx="2237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TextBox 3"/>
          <p:cNvSpPr/>
          <p:nvPr/>
        </p:nvSpPr>
        <p:spPr>
          <a:xfrm>
            <a:off x="400680" y="206064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"/>
          <p:cNvSpPr/>
          <p:nvPr/>
        </p:nvSpPr>
        <p:spPr>
          <a:xfrm>
            <a:off x="541440" y="5445000"/>
            <a:ext cx="11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8"/>
              <p:cNvSpPr txBox="1"/>
              <p:nvPr/>
            </p:nvSpPr>
            <p:spPr>
              <a:xfrm>
                <a:off x="1692360" y="5327640"/>
                <a:ext cx="552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560" y="1125000"/>
            <a:ext cx="87138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4)  Неопределенности  тип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F1B2-1EA0-474B-8DEB-15A6437CD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4"/>
          <p:cNvGraphicFramePr/>
          <p:nvPr/>
        </p:nvGraphicFramePr>
        <p:xfrm>
          <a:off x="6121440" y="1125360"/>
          <a:ext cx="20876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1125360"/>
                    <a:ext cx="2087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6"/>
          <p:cNvSpPr/>
          <p:nvPr/>
        </p:nvSpPr>
        <p:spPr>
          <a:xfrm>
            <a:off x="469800" y="184356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числения пред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7"/>
          <p:cNvGraphicFramePr/>
          <p:nvPr/>
        </p:nvGraphicFramePr>
        <p:xfrm>
          <a:off x="4375080" y="1730520"/>
          <a:ext cx="194472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5080" y="1730520"/>
                    <a:ext cx="1944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10"/>
          <p:cNvSpPr/>
          <p:nvPr/>
        </p:nvSpPr>
        <p:spPr>
          <a:xfrm>
            <a:off x="245880" y="2564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функ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9"/>
          <p:cNvGraphicFramePr/>
          <p:nvPr/>
        </p:nvGraphicFramePr>
        <p:xfrm>
          <a:off x="2556000" y="2565360"/>
          <a:ext cx="151128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2565360"/>
                    <a:ext cx="1511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11"/>
          <p:cNvSpPr/>
          <p:nvPr/>
        </p:nvSpPr>
        <p:spPr>
          <a:xfrm>
            <a:off x="324000" y="29962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чаи, нужно выполнить следующие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46080" y="3427920"/>
            <a:ext cx="45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преобразовать выра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12"/>
          <p:cNvGraphicFramePr/>
          <p:nvPr/>
        </p:nvGraphicFramePr>
        <p:xfrm>
          <a:off x="4714920" y="3357720"/>
          <a:ext cx="1297080" cy="51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357720"/>
                    <a:ext cx="1297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14"/>
          <p:cNvSpPr/>
          <p:nvPr/>
        </p:nvSpPr>
        <p:spPr>
          <a:xfrm>
            <a:off x="3534480" y="3788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арифмического тождества: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421560" y="378936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осн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6"/>
          <p:cNvSpPr/>
          <p:nvPr/>
        </p:nvSpPr>
        <p:spPr>
          <a:xfrm>
            <a:off x="4286520" y="256536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адают в перечис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17"/>
          <p:cNvGraphicFramePr/>
          <p:nvPr/>
        </p:nvGraphicFramePr>
        <p:xfrm>
          <a:off x="2556000" y="4149720"/>
          <a:ext cx="4895640" cy="85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4149720"/>
                    <a:ext cx="48956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20"/>
          <p:cNvGraphicFramePr/>
          <p:nvPr/>
        </p:nvGraphicFramePr>
        <p:xfrm>
          <a:off x="5857920" y="4857840"/>
          <a:ext cx="2303280" cy="58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57920" y="4857840"/>
                    <a:ext cx="23032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19"/>
          <p:cNvGraphicFramePr/>
          <p:nvPr/>
        </p:nvGraphicFramePr>
        <p:xfrm>
          <a:off x="6153120" y="5781600"/>
          <a:ext cx="1008000" cy="52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1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3120" y="5781600"/>
                    <a:ext cx="10080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21"/>
          <p:cNvSpPr/>
          <p:nvPr/>
        </p:nvSpPr>
        <p:spPr>
          <a:xfrm>
            <a:off x="236880" y="494064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ить предел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2"/>
          <p:cNvSpPr/>
          <p:nvPr/>
        </p:nvSpPr>
        <p:spPr>
          <a:xfrm>
            <a:off x="2286000" y="5360040"/>
            <a:ext cx="57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х перечисленных случаях имеет неопределенность  тип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3"/>
          <p:cNvSpPr/>
          <p:nvPr/>
        </p:nvSpPr>
        <p:spPr>
          <a:xfrm>
            <a:off x="90360" y="38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4"/>
          <p:cNvSpPr/>
          <p:nvPr/>
        </p:nvSpPr>
        <p:spPr>
          <a:xfrm>
            <a:off x="642960" y="4941720"/>
            <a:ext cx="84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е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4000" y="1628280"/>
            <a:ext cx="7926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3)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оспользоваться свойством непрерывности функци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1091-E0C0-4638-BBEC-13A0D6223D46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Object 4"/>
          <p:cNvGraphicFramePr/>
          <p:nvPr/>
        </p:nvGraphicFramePr>
        <p:xfrm>
          <a:off x="2771640" y="1844640"/>
          <a:ext cx="151308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844640"/>
                    <a:ext cx="1513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395280" y="2997360"/>
          <a:ext cx="74167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997360"/>
                    <a:ext cx="741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ример 6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Объект 1"/>
              <p:cNvSpPr txBox="1"/>
              <p:nvPr/>
            </p:nvSpPr>
            <p:spPr>
              <a:xfrm>
                <a:off x="2268360" y="1442880"/>
                <a:ext cx="2157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5589-929B-4F87-A648-65E86E48B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"/>
          <p:cNvSpPr/>
          <p:nvPr/>
        </p:nvSpPr>
        <p:spPr>
          <a:xfrm>
            <a:off x="979200" y="1557360"/>
            <a:ext cx="11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977040" y="234936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Объект 4"/>
              <p:cNvSpPr txBox="1"/>
              <p:nvPr/>
            </p:nvSpPr>
            <p:spPr>
              <a:xfrm>
                <a:off x="770040" y="2781360"/>
                <a:ext cx="6538680" cy="33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∞</m:t>
                                </m:r>
                              </m:num>
                              <m:den>
                                <m:r>
                                  <m:t xml:space="preserve">∞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320840" y="2852280"/>
            <a:ext cx="1379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ак как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436C-FD96-4800-8259-7DAB50AE0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Объект 4"/>
              <p:cNvSpPr txBox="1"/>
              <p:nvPr/>
            </p:nvSpPr>
            <p:spPr>
              <a:xfrm>
                <a:off x="1560600" y="620640"/>
                <a:ext cx="337176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Объект 8"/>
              <p:cNvSpPr txBox="1"/>
              <p:nvPr/>
            </p:nvSpPr>
            <p:spPr>
              <a:xfrm>
                <a:off x="2940120" y="2205000"/>
                <a:ext cx="249552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TextBox 11"/>
          <p:cNvSpPr/>
          <p:nvPr/>
        </p:nvSpPr>
        <p:spPr>
          <a:xfrm>
            <a:off x="1508400" y="4365720"/>
            <a:ext cx="140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сю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Объект 12"/>
              <p:cNvSpPr txBox="1"/>
              <p:nvPr/>
            </p:nvSpPr>
            <p:spPr>
              <a:xfrm>
                <a:off x="2719440" y="4221000"/>
                <a:ext cx="2698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9" name="TextBox 13"/>
          <p:cNvSpPr/>
          <p:nvPr/>
        </p:nvSpPr>
        <p:spPr>
          <a:xfrm>
            <a:off x="3421800" y="5661000"/>
            <a:ext cx="157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: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Объект 1" descr=""/>
          <p:cNvPicPr/>
          <p:nvPr/>
        </p:nvPicPr>
        <p:blipFill>
          <a:blip r:embed="rId1"/>
          <a:stretch/>
        </p:blipFill>
        <p:spPr>
          <a:xfrm>
            <a:off x="281160" y="291960"/>
            <a:ext cx="7600680" cy="1646280"/>
          </a:xfrm>
          <a:prstGeom prst="rect">
            <a:avLst/>
          </a:prstGeom>
          <a:ln w="0">
            <a:noFill/>
          </a:ln>
        </p:spPr>
      </p:pic>
      <p:sp>
        <p:nvSpPr>
          <p:cNvPr id="56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569A-08A2-4A5E-B0ED-605ED3650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3200" spc="-1" strike="noStrike">
                <a:solidFill>
                  <a:srgbClr val="993300"/>
                </a:solidFill>
                <a:latin typeface="Century Gothic"/>
              </a:rPr>
              <a:t> </a:t>
            </a: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500"/>
            </a:b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5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920" y="1557360"/>
            <a:ext cx="7634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  неопределенности типа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ли       ,   при                 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98D-BF61-408C-879E-823B6713CD43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5"/>
          <p:cNvGraphicFramePr/>
          <p:nvPr/>
        </p:nvGraphicFramePr>
        <p:xfrm>
          <a:off x="5508720" y="1557360"/>
          <a:ext cx="358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557360"/>
                    <a:ext cx="358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6804000" y="1484280"/>
          <a:ext cx="50472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1484280"/>
                    <a:ext cx="5047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8"/>
          <p:cNvGraphicFramePr/>
          <p:nvPr/>
        </p:nvGraphicFramePr>
        <p:xfrm>
          <a:off x="4572000" y="2205000"/>
          <a:ext cx="12240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05000"/>
                    <a:ext cx="1224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6659640" y="2924280"/>
          <a:ext cx="35856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924280"/>
                    <a:ext cx="358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12"/>
          <p:cNvGraphicFramePr/>
          <p:nvPr/>
        </p:nvGraphicFramePr>
        <p:xfrm>
          <a:off x="1403280" y="3500280"/>
          <a:ext cx="50472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3500280"/>
                    <a:ext cx="504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14"/>
          <p:cNvGraphicFramePr/>
          <p:nvPr/>
        </p:nvGraphicFramePr>
        <p:xfrm>
          <a:off x="5867280" y="3500280"/>
          <a:ext cx="144144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3500280"/>
                    <a:ext cx="14414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16"/>
          <p:cNvGraphicFramePr/>
          <p:nvPr/>
        </p:nvGraphicFramePr>
        <p:xfrm>
          <a:off x="2916360" y="3500280"/>
          <a:ext cx="1368360" cy="84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6360" y="3500280"/>
                    <a:ext cx="136836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9"/>
          <p:cNvGraphicFramePr/>
          <p:nvPr/>
        </p:nvGraphicFramePr>
        <p:xfrm>
          <a:off x="1619280" y="5373720"/>
          <a:ext cx="2089080" cy="119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2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5373720"/>
                    <a:ext cx="20890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8"/>
          <p:cNvGraphicFramePr/>
          <p:nvPr/>
        </p:nvGraphicFramePr>
        <p:xfrm>
          <a:off x="3780000" y="5373720"/>
          <a:ext cx="1871640" cy="1119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4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80000" y="5373720"/>
                    <a:ext cx="18716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5122800" cy="44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22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ТЕОРЕМА ЛОПИТАЛЯ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3592440" y="3938760"/>
                <a:ext cx="1676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F4C7-3D67-4AB1-A1A1-26C8EB28E280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611280" y="836640"/>
            <a:ext cx="698508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функци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ы и имеют производные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≠ 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ой окрестности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оме быть может самой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если существует предел отношения производных этих функц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2554200" y="3125880"/>
                <a:ext cx="4178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8"/>
              <p:cNvSpPr txBox="1"/>
              <p:nvPr/>
            </p:nvSpPr>
            <p:spPr>
              <a:xfrm>
                <a:off x="4649760" y="5229360"/>
                <a:ext cx="17715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26920" y="620640"/>
            <a:ext cx="6483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 существует и предел отношения самих функций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          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имеет место следующее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B9DD-154F-4572-AC47-3B985554C953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3635280" y="1052640"/>
                <a:ext cx="15084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2100240" y="2637000"/>
                <a:ext cx="397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TextBox 9"/>
          <p:cNvSpPr/>
          <p:nvPr/>
        </p:nvSpPr>
        <p:spPr>
          <a:xfrm>
            <a:off x="755280" y="5796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539640" y="3573360"/>
            <a:ext cx="72723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Замечание. 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Отметим, что формула (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) справедлива только в том случае если предел, стоящий справа, существует. Может случиться, что предел, стоящий слева существует, в то время как предел, стоящий в правой части равенства, не суще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4932360" y="5462640"/>
                <a:ext cx="220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331640" y="-963720"/>
            <a:ext cx="64832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F7ED-1177-4489-840E-472A55E5A547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879480" y="781200"/>
                <a:ext cx="53481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Box 11"/>
          <p:cNvSpPr/>
          <p:nvPr/>
        </p:nvSpPr>
        <p:spPr>
          <a:xfrm>
            <a:off x="695520" y="219564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редел отношения произво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5"/>
              <p:cNvSpPr txBox="1"/>
              <p:nvPr/>
            </p:nvSpPr>
            <p:spPr>
              <a:xfrm>
                <a:off x="4716360" y="2035080"/>
                <a:ext cx="14702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TextBox 13"/>
          <p:cNvSpPr/>
          <p:nvPr/>
        </p:nvSpPr>
        <p:spPr>
          <a:xfrm>
            <a:off x="672120" y="2843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7238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0560" y="155700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1)  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определенности типа        или       , при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3CE7-7036-443C-AD4C-2D581BBAD4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5"/>
          <p:cNvGraphicFramePr/>
          <p:nvPr/>
        </p:nvGraphicFramePr>
        <p:xfrm>
          <a:off x="5867280" y="1413000"/>
          <a:ext cx="36540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413000"/>
                    <a:ext cx="365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4"/>
          <p:cNvGraphicFramePr/>
          <p:nvPr/>
        </p:nvGraphicFramePr>
        <p:xfrm>
          <a:off x="7020000" y="1341360"/>
          <a:ext cx="6872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1341360"/>
                    <a:ext cx="687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8"/>
          <p:cNvGraphicFramePr/>
          <p:nvPr/>
        </p:nvGraphicFramePr>
        <p:xfrm>
          <a:off x="4572000" y="1919160"/>
          <a:ext cx="1512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919160"/>
                    <a:ext cx="1512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0"/>
          <p:cNvGraphicFramePr/>
          <p:nvPr/>
        </p:nvGraphicFramePr>
        <p:xfrm>
          <a:off x="4591080" y="2944800"/>
          <a:ext cx="35892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1080" y="2944800"/>
                    <a:ext cx="35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5796000" y="2944800"/>
          <a:ext cx="36684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6000" y="2944800"/>
                    <a:ext cx="3668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4"/>
          <p:cNvGraphicFramePr/>
          <p:nvPr/>
        </p:nvGraphicFramePr>
        <p:xfrm>
          <a:off x="2195640" y="3411360"/>
          <a:ext cx="15843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3411360"/>
                    <a:ext cx="1584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6"/>
          <p:cNvGraphicFramePr/>
          <p:nvPr/>
        </p:nvGraphicFramePr>
        <p:xfrm>
          <a:off x="7093080" y="2813040"/>
          <a:ext cx="1224000" cy="84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93080" y="2813040"/>
                    <a:ext cx="12240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19"/>
          <p:cNvGraphicFramePr/>
          <p:nvPr/>
        </p:nvGraphicFramePr>
        <p:xfrm>
          <a:off x="2124000" y="4751280"/>
          <a:ext cx="2376720" cy="148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24000" y="4751280"/>
                    <a:ext cx="2376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8"/>
          <p:cNvGraphicFramePr/>
          <p:nvPr/>
        </p:nvGraphicFramePr>
        <p:xfrm>
          <a:off x="4716360" y="4829040"/>
          <a:ext cx="2160720" cy="140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360" y="4829040"/>
                    <a:ext cx="21607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59984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85A3-33C0-4442-A1F5-A451F088A26F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ъект 4"/>
              <p:cNvSpPr txBox="1"/>
              <p:nvPr/>
            </p:nvSpPr>
            <p:spPr>
              <a:xfrm>
                <a:off x="711360" y="1989000"/>
                <a:ext cx="2023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TextBox 5"/>
          <p:cNvSpPr/>
          <p:nvPr/>
        </p:nvSpPr>
        <p:spPr>
          <a:xfrm>
            <a:off x="133200" y="32130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Объект 6"/>
              <p:cNvSpPr txBox="1"/>
              <p:nvPr/>
            </p:nvSpPr>
            <p:spPr>
              <a:xfrm>
                <a:off x="6629400" y="2997360"/>
                <a:ext cx="704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Объект 7"/>
              <p:cNvSpPr txBox="1"/>
              <p:nvPr/>
            </p:nvSpPr>
            <p:spPr>
              <a:xfrm>
                <a:off x="755640" y="4005360"/>
                <a:ext cx="65088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TextBox 8"/>
          <p:cNvSpPr/>
          <p:nvPr/>
        </p:nvSpPr>
        <p:spPr>
          <a:xfrm>
            <a:off x="789480" y="54450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78920" y="1557360"/>
            <a:ext cx="741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2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: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                       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,             следует преобразовать произведение                              в частно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700D-659E-4B97-85F6-FDE2F6932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5435640" y="1413000"/>
          <a:ext cx="108108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10810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6"/>
          <p:cNvGraphicFramePr/>
          <p:nvPr/>
        </p:nvGraphicFramePr>
        <p:xfrm>
          <a:off x="4932360" y="1989000"/>
          <a:ext cx="288144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89000"/>
                    <a:ext cx="28814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8"/>
          <p:cNvGraphicFramePr/>
          <p:nvPr/>
        </p:nvGraphicFramePr>
        <p:xfrm>
          <a:off x="7308720" y="3041640"/>
          <a:ext cx="86544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3041640"/>
                    <a:ext cx="8654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0"/>
          <p:cNvGraphicFramePr/>
          <p:nvPr/>
        </p:nvGraphicFramePr>
        <p:xfrm>
          <a:off x="5940360" y="3500280"/>
          <a:ext cx="151308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3500280"/>
                    <a:ext cx="1513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3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12"/>
          <p:cNvGraphicFramePr/>
          <p:nvPr/>
        </p:nvGraphicFramePr>
        <p:xfrm>
          <a:off x="611280" y="4581360"/>
          <a:ext cx="2879640" cy="140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4581360"/>
                    <a:ext cx="287964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15"/>
          <p:cNvSpPr/>
          <p:nvPr/>
        </p:nvSpPr>
        <p:spPr>
          <a:xfrm>
            <a:off x="3465720" y="472320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14"/>
          <p:cNvGraphicFramePr/>
          <p:nvPr/>
        </p:nvGraphicFramePr>
        <p:xfrm>
          <a:off x="7236000" y="4508640"/>
          <a:ext cx="365040" cy="93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4508640"/>
                    <a:ext cx="3650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17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45" name="Object 4"/>
          <p:cNvGraphicFramePr/>
          <p:nvPr/>
        </p:nvGraphicFramePr>
        <p:xfrm>
          <a:off x="1258920" y="1735200"/>
          <a:ext cx="295128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35200"/>
                    <a:ext cx="29512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F854-107C-494B-B55B-74FDC5DFB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7"/>
          <p:cNvGraphicFramePr/>
          <p:nvPr/>
        </p:nvGraphicFramePr>
        <p:xfrm>
          <a:off x="7596360" y="1557360"/>
          <a:ext cx="5238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557360"/>
                    <a:ext cx="523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9"/>
          <p:cNvSpPr/>
          <p:nvPr/>
        </p:nvSpPr>
        <p:spPr>
          <a:xfrm>
            <a:off x="395280" y="173232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897720" y="1915200"/>
            <a:ext cx="36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973440" y="38595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воспользоваться  правилом  Лопит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6:15:39Z</dcterms:created>
  <dc:creator>к.502</dc:creator>
  <dc:description/>
  <dc:language>en-US</dc:language>
  <cp:lastModifiedBy>Пользователь</cp:lastModifiedBy>
  <dcterms:modified xsi:type="dcterms:W3CDTF">2018-07-01T12:37:23Z</dcterms:modified>
  <cp:revision>70</cp:revision>
  <dc:subject/>
  <dc:title>ПРОИЗВОДНАЯ  ФУНКЦИИ </dc:title>
</cp:coreProperties>
</file>